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6AD27-3EB9-4327-AE79-29A3FA20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99FDE-9AC8-496C-8F13-C37D82BC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C0EA2-D5C8-485C-AC9E-1DF16EBC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4A5FA-CA81-48CD-A871-425A7C8B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5D39B-7FF1-4A2B-9405-09D9B2A7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3210A-25C7-43EC-B39F-D647ACF6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2756D-B821-4940-A9ED-C0EC4E39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A36FC-1C9C-4432-B13C-E9D966B1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F2787-6314-4150-8E05-D89D7A6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E366D-F721-40E7-8984-32035F39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C3D20-56EA-4BE5-81E3-DEFEEA8C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FDEFA-A6B6-454C-AB54-2FB25751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3200400" cy="10666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-360" y="6642000"/>
            <a:ext cx="685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3366"/>
                </a:solidFill>
                <a:latin typeface="Arial"/>
              </a:rPr>
              <a:t>10/3/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-360" y="6398640"/>
            <a:ext cx="609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2C66-DDF7-4B33-9D28-39F463B09693}" type="slidenum">
              <a:rPr b="0" lang="pt-BR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6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7239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001C-3E52-473D-8B75-8FBEC3E86103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73680" y="2556000"/>
            <a:ext cx="70002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Componentes de um J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bertura, Encerr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nfiguração de Disposi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rilha Sonora, Efeitos Sono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réditos, Scores, Recursos Multiplayer,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enário / Mun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gentes / Atores / Personage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ntroles, Câmera, Animações, Iluminação, Ações,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72600" y="104760"/>
            <a:ext cx="38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Web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http://inf.unisinos.br/~osorio/jogos-gt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16000" y="4941720"/>
            <a:ext cx="4680000" cy="1008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73680" y="2556000"/>
            <a:ext cx="70002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Componentes de um J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bertura, Encerr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nfiguração de Disposi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rilha Sonora, Efeitos Sono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réditos, Scores, Recursos Multiplayer,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Cenário / Mun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Agentes / Atores / Personage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ntroles, Câmera, Animações, Iluminação, Ações,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72600" y="104760"/>
            <a:ext cx="38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Web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http://inf.unisinos.br/~osorio/jogos-gt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5240" y="1523880"/>
            <a:ext cx="592272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 Ambiente em que a ação se desenrola pode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  pode ser construído de diferentes form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Objetos Simp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Objetos Complex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Matri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BS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Terr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Mes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4320" y="10476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Tópic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Cená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74960" y="1523880"/>
            <a:ext cx="727632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Objetos Simp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bjetos Simp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Sphere, Box, Cube, Cone, Cylin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lain, Triang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BOX : MAKE OBJECT BOX Object Number, Width, Height, Dept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CONE : MAKE OBJECT CONE Object Number, Siz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CUBE : MAKE OBJECT CUBE Object Number, Siz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CYLINDER : MAKE OBJECT CYLINDER Object Number, Siz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PLAIN : MAKE OBJECT PLAIN Object Number, Width, He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SPHERE : MAKE OBJECT SPHERE Object Number, Siz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TRIANGLE : MAKE OBJECT TRIANGLE Object Number, X1, Y1, Z1, X2, Y2, Z2, X3, Y3, Z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XTURE OBJECT : TEXTURE OBJECT Object Number, Image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HOW OBJECT : SHOW OBJECT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HIDE OBJECT : HIDE OBJECT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OSITION OBJECT : POSITION OBJECT Object Number, X, Y, Z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CALE OBJECT : SCALE OBJECT Object Number, XSize, YSize, ZSiz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ROTATE OBJECT : ROTATE OBJECT Object Number, XAngle, YAngle, ZAng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OVE OBJECT : MOVE OBJECT Object Number, Spe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4320" y="10476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Tópic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Cená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27640" y="90792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32720" y="2997360"/>
            <a:ext cx="20523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0200" y="1523880"/>
            <a:ext cx="591696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Objetos Complex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bjetos Complexos:  .X, .3ds   (DarkMatt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rquivo .X =&gt; Formato adequado ao DBPr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ormato padrão do DirectX / Microsof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Exportado pelo 3DStudioMax, Maya, GameSp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Conversor: conv3ds  (DirectX SDK)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4320" y="10476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Tópic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Cená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8680" y="4343400"/>
            <a:ext cx="59824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OAD OBJECT : LOAD OBJECT Filename,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HOW OBJECT : SHOW OBJECT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HIDE OBJECT : HIDE OBJECT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OSITION OBJECT : POSITION OBJECT Object Number, X, Y, Z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CALE OBJECT : SCALE OBJECT Object Number, XSize, YSize, ZSiz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ROTATE OBJECT : ROTATE OBJECT Object Number, XAngle, YAngle, ZAng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OVE OBJECT : MOVE OBJECT Object Number, Spe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LAY OBJECT : PLAY OBJECT Object Number                </a:t>
            </a:r>
            <a:r>
              <a:rPr b="0" lang="en-US" sz="1200" spc="-1" strike="noStrike">
                <a:solidFill>
                  <a:srgbClr val="003366"/>
                </a:solidFill>
                <a:latin typeface="Wingdings"/>
                <a:ea typeface="Wingdings"/>
              </a:rPr>
              <a:t>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OBJETOS COM ANIMAÇÃ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OOP OBJECT : LOOP OBJECT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OP OBJECT : STOP OBJECT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T OBJECT FRAME : SET OBJECT FRAME Object Number, Fram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T OBJECT SPEED : SET OBJECT SPEED Object Number, Spe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5013360"/>
            <a:ext cx="2678040" cy="1679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40360" y="5013360"/>
            <a:ext cx="2184120" cy="1638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32120" y="1557360"/>
            <a:ext cx="78278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atrix – Definindo uma superfície (com elevações e textur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320" y="10476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Tópic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Cená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63960" y="3068640"/>
            <a:ext cx="7308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MATRIX : MAKE MATRIX Matrix Number, Width, Height, XSegments, ZSeg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OSITION MATRIX : POSITION MATRIX Matrix Number, X, Y, Z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REPARE MATRIX TEXTURE : PREPARE MATRIX TEXTURE Matrix Number, Image Number, Across, Dow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LL MATRIX : FILL MATRIX Matrix Number, Height, Tile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T MATRIX HEIGHT : SET MATRIX HEIGHT Matrix Number, TileX, TileZ, He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UPDATE MATRIX : UPDATE MATRIX Matrix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Return Float=GET GROUND HEIGHT(Número da Matriz, X, Z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443640" y="5013360"/>
            <a:ext cx="23763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2916360" cy="2036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67400" y="1523880"/>
            <a:ext cx="592632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Terr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ake Terrain  (DBPro... Use: DarkSD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MAKE TERRAIN : MAKE TERRAIN Terrain Number, Heightmap Filena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DELETE TERRAIN : DELETE TERRAIN Terrain Numb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OSITION TERRAIN : POSITION TERRAIN Terrain Number, X, Y, Z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TEXTURE TERRAIN : TEXTURE TERRAIN Terrain Number, Image Numb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4320" y="10476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Tópic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Cená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27640" y="4365720"/>
            <a:ext cx="2903400" cy="20271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9480" y="917280"/>
            <a:ext cx="82296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54080" y="1523880"/>
            <a:ext cx="75628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Mapas BSP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apas: BSP, PK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rquivo .PK3 é na realidade um ZIP contendo o BSP den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Definição de mapas complexos com texturas, luz, efeitos e colis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ossibilidade de combinar: BSP + Obje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4320" y="10476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Tópic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Cená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4098960"/>
            <a:ext cx="3233880" cy="242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925160" y="4292640"/>
            <a:ext cx="295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load bsp nome$+".pk3",nome$+".bsp“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et bsp camera 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et bsp camera collision 1, 0, 0.5, 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79480" y="917280"/>
            <a:ext cx="82296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5240" y="1523880"/>
            <a:ext cx="69912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COLISÕE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Se temos um cenário e objetos... teremos COLISÕE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Evitar colisões contr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- Objetos Simp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- Objetos Complex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- Chão e Paredes  (Incluindo: Escada, Quedas, et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- Mapas BS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4320" y="10476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Tópic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Cená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2:38:51Z</dcterms:created>
  <dc:creator>osorio</dc:creator>
  <dc:description/>
  <dc:language>en-US</dc:language>
  <cp:lastModifiedBy>Fernando Santos Osorio</cp:lastModifiedBy>
  <dcterms:modified xsi:type="dcterms:W3CDTF">2005-09-15T15:55:19Z</dcterms:modified>
  <cp:revision>242</cp:revision>
  <dc:subject/>
  <dc:title>DarkBasic Pro</dc:title>
</cp:coreProperties>
</file>