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FEBFB-63C7-4FB7-89E4-40CD2654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B8069-04C9-40AB-B9C9-A3A9992A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45D68-7050-42F9-8125-CD230817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50CDB-5EC7-4D00-92D7-5882E505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7C9ED-324A-4061-93A0-1A92185B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E65CF-F896-4797-A7F7-6C84136E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149B4-7848-403B-A8BD-AFB7CEBB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8B9F6-EE9B-406B-9DA8-1D276F85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DFF7C-C635-478B-AEE4-84E88706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78704-AFBB-48E0-87EB-D92487B0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56D91-E4EF-4CE0-81D2-6D2566EC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93ABB-BF1D-41D3-A444-0B2EA6F1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3200400" cy="10666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-360" y="6642000"/>
            <a:ext cx="6858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3366"/>
                </a:solidFill>
                <a:latin typeface="Arial"/>
              </a:rPr>
              <a:t>10/3/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-360" y="6398640"/>
            <a:ext cx="609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46DC-38CC-456D-BD8A-3F7FDC5661A9}" type="slidenum">
              <a:rPr b="0" lang="pt-BR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6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7239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4DB6-D8CF-409E-85FC-36DD360A1CC4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7880" y="442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TJedi – Ferramentas RAD / RG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f. Osório / Unisinos 2005-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74400" y="2556000"/>
            <a:ext cx="46868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Colisão em Jog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etecção e Tratamento de Colisõ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72600" y="104760"/>
            <a:ext cx="38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Web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http://inf.unisinos.br/~osorio/jogos-gt.htm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59280" y="4005360"/>
            <a:ext cx="4147920" cy="2544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12000" y="2825640"/>
            <a:ext cx="3132000" cy="2349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236000" y="5281560"/>
            <a:ext cx="1657080" cy="1381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619280" y="3573360"/>
            <a:ext cx="1905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7880" y="442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TJedi – Ferramentas RAD / RG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f. Osório / Unisinos 2005-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76560" y="2556000"/>
            <a:ext cx="7000560" cy="33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Colisão em J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etecção de Colisão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Tipos de colisão a serem detectados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tor      </a:t>
            </a:r>
            <a:r>
              <a:rPr b="0" i="1" lang="pt-BR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 Objeto e/ou Cenário  (Ex.: 3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ª Pesso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âmera </a:t>
            </a:r>
            <a:r>
              <a:rPr b="0" i="1" lang="pt-BR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 Objeto e/ou Cenário  (Ex.: 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ª pesso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Objeto   </a:t>
            </a:r>
            <a:r>
              <a:rPr b="0" i="1" lang="pt-BR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 Objeto e/ou Cenário  (Ex.: Tir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66480" y="104760"/>
            <a:ext cx="197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Tópic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Detecção de Colisõ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76720" y="1373040"/>
            <a:ext cx="3600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7880" y="442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TJedi – Ferramentas RAD / RG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f. Osório / Unisinos 2005-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70440" y="2556000"/>
            <a:ext cx="700344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Tipos de Objetos em Colisõ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Objetos Simples  (sphere, box, ..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Objetos Complexos (Objeto ".x"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Matrix (Colisão com o chão: elevaçõ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enário BSP (Colisão contra elementos do cenári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âmera e/ou Câmera/Objeto Liga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Tipos de Detec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etecção automática DBPro (Lista de objetos/colisã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etecção por Distância (Raio mínimo de separaçã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etecção por Posição  (Matriz de Ocupaçã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66480" y="104760"/>
            <a:ext cx="197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Tópic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Detecção de Colisõ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7880" y="442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TJedi – Ferramentas RAD / RG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f. Osório / Unisinos 2005-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2600" y="2556000"/>
            <a:ext cx="7503480" cy="39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Tipos de Colisões com a Câm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aredes: Bate-Vol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Objetos: Bate =&gt; Reação? Física, gera um evento, et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Escadas: Subir degraus - Bate, Sobe, Bate-Volta ou F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hão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- Elev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- Vãos e Buracos: Queda  (desce, testa colisã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Também podemos usar técnicas como o Mapa de Ocup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ara saber se tem um "buraco"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66480" y="104760"/>
            <a:ext cx="197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Tópic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Detecção de Colisõ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2:38:51Z</dcterms:created>
  <dc:creator>osorio</dc:creator>
  <dc:description/>
  <dc:language>en-US</dc:language>
  <cp:lastModifiedBy>Fernando Santos Osorio</cp:lastModifiedBy>
  <dcterms:modified xsi:type="dcterms:W3CDTF">2005-09-27T13:18:39Z</dcterms:modified>
  <cp:revision>255</cp:revision>
  <dc:subject/>
  <dc:title>DarkBasic Pro</dc:title>
</cp:coreProperties>
</file>