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F5122-94AF-4AC5-BABA-57386C2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25070-5F58-4025-A194-ABC49F7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A67EE-78D9-4F6F-8077-99147C6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4F24B-4AFD-41F7-8E4B-98CD4BFB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7001-B83F-42AF-857B-3CDF78C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D773-5B62-41CB-B357-7A0DDBE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32B0-C01C-4602-9518-3BB630E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C4DB7-6C0C-4891-B3C8-7F4D837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0B73F-4B07-4748-B6EA-0B381AF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3D4A2-DE5C-4116-80D2-51FAD021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B389-44A0-4047-BD53-1925F79D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CB3A8-0F39-4527-93E9-80E12432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3200400" cy="10666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6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3366"/>
                </a:solidFill>
                <a:latin typeface="Arial"/>
              </a:rPr>
              <a:t>10/3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-360" y="6398640"/>
            <a:ext cx="609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E76-C9B7-48E5-B21E-4B6F46475901}" type="slidenum">
              <a:rPr b="0" lang="pt-BR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6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7239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E64-CC5D-462C-BED8-9CFD68241ACE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3320" y="2421000"/>
            <a:ext cx="61228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ipos de Arquivos: Texto x Biná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tring, Integer, Float, Byte, Word, L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peraçõ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bertura (op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Leitura/Escrita (read/wri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Fechamento (clo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este: Arquivo existe? Chegou ao final?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istema de Arquiv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mover, Renomear, Trocar Diretório,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1320" y="2421000"/>
            <a:ext cx="509256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LEI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REM Leitura de um Array de valores reais =&gt; DIM C#(10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nput "Nome do Arquivo: "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f File Exist(Arquivo$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pen to read 1,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print "&gt;&gt;&gt; ERRO: Abertura do Arquivo - ", Arquivo$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ait key :  e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cont =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hile not file end (1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ad float 1,C#(cont)</a:t>
            </a: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:   cont = cont +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whi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close file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421000"/>
            <a:ext cx="487476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LEI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REM Leitura de um Array de texto =&gt; DIM C$(10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nput "Nome do Arquivo: "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f File Exist(Arquivo$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pen to read 1,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print "&gt;&gt;&gt; ERRO: Abertura do Arquivo - ", Arquivo$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ait key :  e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cont =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hile not file end (1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ad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Times New Roman"/>
              </a:rPr>
              <a:t>string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1,C$(cont)</a:t>
            </a: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:   cont = cont +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whi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close file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1320" y="2421000"/>
            <a:ext cx="509256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ESCR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REM Leitura de um Array de valores reais =&gt; DIM C#(10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nput "Nome do Arquivo: "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f File Exist(Arquivo$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print "&gt;&gt;&gt; Arquivo existente será apagado...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ait ke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delete file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pen to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Times New Roman"/>
              </a:rPr>
              <a:t>write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1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for cont=1 to 1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write float 1,C#(cont)</a:t>
            </a: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next co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close file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9160" y="2421000"/>
            <a:ext cx="45590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ESCR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REM Leitura de um Array de textos =&gt; DIM C$(10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nput "Nome do Arquivo: "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if File Exist(Arquivo$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print "&gt;&gt;&gt; Arquivo existente será apagado..."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wait ke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delete file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end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pen to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Times New Roman"/>
              </a:rPr>
              <a:t>write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1, Arquivo$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for cont=1 to 1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write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Times New Roman"/>
              </a:rPr>
              <a:t>string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1,C$(cont)</a:t>
            </a: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:   cont = cont +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Times New Roman"/>
              </a:rPr>
              <a:t>next co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close file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75480" y="2421000"/>
            <a:ext cx="531828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FUNÇÕ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PEN TO READ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PEN TO READ File Number, File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PEN TO WRIT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PEN TO WRITE File Number, File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LOSE FIL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LOSE FILE File Numb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FIL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FILE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BYT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BYTE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FLOAT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FLOAT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LONG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LONG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STRING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STRING File Number, Variable St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WORD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AD WORD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FIL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FILE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WORD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WORD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BYTE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BYTE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LONG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LONG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FLOAT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FLOAT File Number, Vari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STRING 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RITE STRING File Number, Str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15848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7880" y="442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Jedi – Ferramentas RAD / RG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2005-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3520" y="2421000"/>
            <a:ext cx="86115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Arquivos de Dad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Utilizando arquivo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leção de números, Coordenadas, Dados textuais, Mapa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tuação, Registros de Dados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anipulação de String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Read string 1, N$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Dados#(cont) = val(N$)   :  Rem Val =&gt; Converte String em Núme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Texto$="12345678"         :  Rem Extrai 1 caracter da st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prim$=left$(Texto$,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resto$=right$(Texto$,len(Texto$)-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print prim$ : print resto$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2600" y="104760"/>
            <a:ext cx="38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Web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2:38:51Z</dcterms:created>
  <dc:creator>osorio</dc:creator>
  <dc:description/>
  <dc:language>en-US</dc:language>
  <cp:lastModifiedBy>Fernando Santos Osorio</cp:lastModifiedBy>
  <dcterms:modified xsi:type="dcterms:W3CDTF">2005-09-29T14:53:19Z</dcterms:modified>
  <cp:revision>273</cp:revision>
  <dc:subject/>
  <dc:title>DarkBasic Pro</dc:title>
</cp:coreProperties>
</file>