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1CCA3-99A5-4182-912E-7DA0A9F9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D0765-6204-4CC5-9776-6A0C52DD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9332B-876C-478F-B516-9569C0C2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B1994-EC63-45D9-8B65-5315EC03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AF077-320B-4F28-AA8C-44145C93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4F38F-4F69-4CB0-BCD2-240AEE89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D334F-4BCF-40D9-AF97-BE3CFA9C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C3DBF-E7AF-4AC8-ABA4-21FB54FC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0FEBD-89D2-484F-BA59-B64015A1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59687-79FE-4AB4-9404-89D6540C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5CDAB-37F0-4FCF-8421-4B4C4639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7F848-41F5-4329-AD81-785E5A1A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3200400" cy="10666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-360" y="6642000"/>
            <a:ext cx="6858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8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3366"/>
                </a:solidFill>
                <a:latin typeface="Arial"/>
              </a:rPr>
              <a:t>10/3/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-360" y="6398640"/>
            <a:ext cx="609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467C-82B8-49E6-9F43-909BFD537721}" type="slidenum">
              <a:rPr b="0" lang="pt-BR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26920" y="836640"/>
            <a:ext cx="8316720" cy="318960"/>
            <a:chOff x="826920" y="836640"/>
            <a:chExt cx="8316720" cy="318960"/>
          </a:xfrm>
        </p:grpSpPr>
        <p:sp>
          <p:nvSpPr>
            <p:cNvPr id="6" name=""/>
            <p:cNvSpPr/>
            <p:nvPr/>
          </p:nvSpPr>
          <p:spPr>
            <a:xfrm>
              <a:off x="1255320" y="836640"/>
              <a:ext cx="788832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826920" y="836640"/>
              <a:ext cx="4428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5335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5360" y="44280"/>
            <a:ext cx="35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T - </a:t>
            </a:r>
            <a:r>
              <a:rPr b="1" lang="pt-BR" sz="18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gos e </a:t>
            </a:r>
            <a:r>
              <a:rPr b="1" lang="pt-BR" sz="1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tretenimento </a:t>
            </a:r>
            <a:r>
              <a:rPr b="1" lang="pt-BR" sz="1800" spc="-1" strike="noStrike">
                <a:solidFill>
                  <a:srgbClr val="cc0000"/>
                </a:solidFill>
                <a:latin typeface="Times New Roman"/>
              </a:rPr>
              <a:t>Di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it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f. Osório / Unisinos / Maio 200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857400" y="-27000"/>
            <a:ext cx="478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cc"/>
                </a:solidFill>
                <a:latin typeface="Times New Roman"/>
              </a:rPr>
              <a:t>Oficina: Desenvolvimento de Jogos 3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http://inf.unisinos.br/~osorio/jogos-gt.htm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Times New Roman"/>
              </a:rPr>
              <a:t>http://www.unisinos.br/graduacao_tecnologica/jogos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5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D5A4-5910-4B5D-A857-5C46187AB548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230480"/>
            <a:ext cx="8001000" cy="11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UNISINOS - </a:t>
            </a:r>
            <a:r>
              <a:rPr b="1" i="1" lang="pt-BR" sz="2400" spc="-1" strike="noStrike">
                <a:solidFill>
                  <a:srgbClr val="cc0066"/>
                </a:solidFill>
                <a:latin typeface="Arial"/>
              </a:rPr>
              <a:t>EXPERIENCE CAMPUS</a:t>
            </a:r>
            <a:br>
              <a:rPr sz="2400"/>
            </a:br>
            <a:br>
              <a:rPr sz="800"/>
            </a:b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Curso de Graduação Tecnológica em </a:t>
            </a:r>
            <a:br>
              <a:rPr sz="2400"/>
            </a:b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Desenvolvimento de Jogos e Entretenimento Digital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2565360"/>
            <a:ext cx="7488360" cy="4115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Oficina:  </a:t>
            </a:r>
            <a:r>
              <a:rPr b="1" lang="pt-BR" sz="2400" spc="-1" strike="noStrike">
                <a:solidFill>
                  <a:srgbClr val="3366cc"/>
                </a:solidFill>
                <a:latin typeface="Times New Roman"/>
              </a:rPr>
              <a:t>Iniciação JED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&lt;&lt; Desenvolvimento de Jogos 3D &gt;&gt; </a:t>
            </a:r>
            <a:br>
              <a:rPr sz="2400"/>
            </a:b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Ferramenta "RAD" - DarkBasic P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Professor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Fernando </a:t>
            </a:r>
            <a:r>
              <a:rPr b="1" i="1" lang="pt-BR" sz="2000" spc="-1" strike="noStrike" u="sng">
                <a:solidFill>
                  <a:srgbClr val="000066"/>
                </a:solidFill>
                <a:uFillTx/>
                <a:latin typeface="Times New Roman"/>
              </a:rPr>
              <a:t>OSÓRIO</a:t>
            </a: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 - Curso de GT-JED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tato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We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 http://www.unisinos.br/graduacao_tecnologica/jogos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mail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 jogos@unisinos.br -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ordenador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 Prof. Christian Hofset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essoal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 fosorio@unisinos.br  - http://inf.unisinos.br/~osorio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1130040" cy="725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981840" y="2637000"/>
            <a:ext cx="1622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1231560"/>
            <a:ext cx="8001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5240" y="1841400"/>
            <a:ext cx="592272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Cená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 Ambiente em que a ação se desenrola pode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  pode ser construído de diferentes form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Objetos Simp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Objetos Complex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Matri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BS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Terra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Mes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74960" y="1930320"/>
            <a:ext cx="727632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Cenário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Objetos Simp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bjetos Simp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Sphere, Box, Cube, Cone, Cylind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lain, Triang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KE OBJECT BOX : MAKE OBJECT BOX Object Number, Width, Height, Depth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KE OBJECT CONE : MAKE OBJECT CONE Object Number, Siz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KE OBJECT CUBE : MAKE OBJECT CUBE Object Number, Siz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KE OBJECT CYLINDER : MAKE OBJECT CYLINDER Object Number, Siz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KE OBJECT PLAIN : MAKE OBJECT PLAIN Object Number, Width, Heigh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KE OBJECT SPHERE : MAKE OBJECT SPHERE Object Number, Siz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KE OBJECT TRIANGLE : MAKE OBJECT TRIANGLE Object Number, X1, Y1, Z1, X2, Y2, Z2, X3, Y3, Z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EXTURE OBJECT : TEXTURE OBJECT Object Number, Image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HOW OBJECT : SHOW OBJECT Object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HIDE OBJECT : HIDE OBJECT Object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OSITION OBJECT : POSITION OBJECT Object Number, X, Y, Z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CALE OBJECT : SCALE OBJECT Object Number, XSize, YSize, ZSiz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ROTATE OBJECT : ROTATE OBJECT Object Number, XAngle, YAngle, ZAngl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OVE OBJECT : MOVE OBJECT Object Number, Spe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242720"/>
            <a:ext cx="82296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227640" y="907920"/>
            <a:ext cx="2670120" cy="2003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732720" y="2959200"/>
            <a:ext cx="20523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8001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0200" y="1828800"/>
            <a:ext cx="59169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Cenário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Objetos Complex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bjetos Complexos:  .X, .3ds   (DarkMatt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rquivo .X =&gt; Formato adequado ao DBPr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Formato padrão do DirectX / Microsof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Exportado pelo 3DStudioMax, Maya, GameSp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Conversor: conv3ds  (DirectX SDK)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68680" y="4343400"/>
            <a:ext cx="59824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OAD OBJECT : LOAD OBJECT Filename, Object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HOW OBJECT : SHOW OBJECT Object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HIDE OBJECT : HIDE OBJECT Object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OSITION OBJECT : POSITION OBJECT Object Number, X, Y, Z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CALE OBJECT : SCALE OBJECT Object Number, XSize, YSize, ZSiz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ROTATE OBJECT : ROTATE OBJECT Object Number, XAngle, YAngle, ZAngl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OVE OBJECT : MOVE OBJECT Object Number, Spe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LAY OBJECT : PLAY OBJECT Object Number                </a:t>
            </a:r>
            <a:r>
              <a:rPr b="0" lang="en-US" sz="1200" spc="-1" strike="noStrike">
                <a:solidFill>
                  <a:srgbClr val="003366"/>
                </a:solidFill>
                <a:latin typeface="Wingdings"/>
                <a:ea typeface="Wingdings"/>
              </a:rPr>
              <a:t>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OBJETOS COM ANIMAÇÃ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OOP OBJECT : LOOP OBJECT Object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TOP OBJECT : STOP OBJECT Object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ET OBJECT FRAME : SET OBJECT FRAME Object Number, Fram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ET OBJECT SPEED : SET OBJECT SPEED Object Number, Spe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230120"/>
            <a:ext cx="822960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32000" y="5013360"/>
            <a:ext cx="2678040" cy="167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40360" y="5013360"/>
            <a:ext cx="2184120" cy="1638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32120" y="1951200"/>
            <a:ext cx="78278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Cenário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atrix – Definindo uma superfície (com elevações e textur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63960" y="3068640"/>
            <a:ext cx="73083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KE MATRIX : MAKE MATRIX Matrix Number, Width, Height, XSegments, ZSeg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OSITION MATRIX : POSITION MATRIX Matrix Number, X, Y, Z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REPARE MATRIX TEXTURE : PREPARE MATRIX TEXTURE Matrix Number, Image Number, Across, Dow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ILL MATRIX : FILL MATRIX Matrix Number, Height, Tile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ET MATRIX HEIGHT : SET MATRIX HEIGHT Matrix Number, TileX, TileZ, Heigh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UPDATE MATRIX : UPDATE MATRIX Matrix Numb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Return Float=GET GROUND HEIGHT(Número da Matriz, X, Z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443640" y="5013360"/>
            <a:ext cx="237636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2916360" cy="2036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067400" y="1854360"/>
            <a:ext cx="59263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Cenário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Terr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ake Terrain  (DBPro... Use: DarkSD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MAKE TERRAIN : MAKE TERRAIN Terrain Number, Heightmap Filenam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DELETE TERRAIN : DELETE TERRAIN Terrain Numb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POSITION TERRAIN : POSITION TERRAIN Terrain Number, X, Y, Z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TEXTURE TERRAIN : TEXTURE TERRAIN Terrain Number, Image Numb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427640" y="4365720"/>
            <a:ext cx="2903400" cy="20271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1244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79480" y="1247400"/>
            <a:ext cx="822960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54080" y="1854360"/>
            <a:ext cx="7562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Cenário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Mapas BSP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apas: BSP, PK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rquivo .PK3 é na realidade um ZIP contendo o BSP dent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Definição de mapas complexos com texturas, luz, efeitos e colisã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ossibilidade de combinar: BSP + Obje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47640" y="4098960"/>
            <a:ext cx="3233880" cy="2425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925160" y="4292640"/>
            <a:ext cx="295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load bsp nome$+".pk3",nome$+".bsp“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et bsp camera 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et bsp camera collision 1, 0, 0.5, 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79480" y="1260000"/>
            <a:ext cx="822960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5240" y="1866960"/>
            <a:ext cx="69912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imes New Roman"/>
              </a:rPr>
              <a:t>Cenário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COLISÕES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Se temos um cenário e objetos... teremos COLISÕES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Evitar colisões contr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- Objetos Simp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- Objetos Complex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- Chão e Paredes  (Incluindo: Escada, Quedas, et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- Mapas BS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230480"/>
            <a:ext cx="8001000" cy="11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UNISINOS - </a:t>
            </a:r>
            <a:r>
              <a:rPr b="1" i="1" lang="pt-BR" sz="2400" spc="-1" strike="noStrike">
                <a:solidFill>
                  <a:srgbClr val="cc0066"/>
                </a:solidFill>
                <a:latin typeface="Arial"/>
              </a:rPr>
              <a:t>EXPERIENCE CAMPUS</a:t>
            </a:r>
            <a:br>
              <a:rPr sz="2400"/>
            </a:br>
            <a:br>
              <a:rPr sz="800"/>
            </a:b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&lt;&lt; Desenvolvimento de Jogos 3D &gt;&gt;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1130040" cy="725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00000" y="227664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Desenvolvendo Jogos 3D...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Tipos de Jog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Modificando um jogo já desenvolvido =&gt; MO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Criando um Jogo 3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Ferramentas de Desenvolvimento de Jog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- RAD - Rapid Application Develop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- Engi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- Jogos 2D, Jogos 3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- Jogos Casuais, AAA, "serious games", "mobile", ...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230480"/>
            <a:ext cx="8001000" cy="11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UNISINOS - </a:t>
            </a:r>
            <a:r>
              <a:rPr b="1" i="1" lang="pt-BR" sz="2400" spc="-1" strike="noStrike">
                <a:solidFill>
                  <a:srgbClr val="cc0066"/>
                </a:solidFill>
                <a:latin typeface="Arial"/>
              </a:rPr>
              <a:t>EXPERIENCE CAMPUS</a:t>
            </a:r>
            <a:br>
              <a:rPr sz="2400"/>
            </a:br>
            <a:br>
              <a:rPr sz="800"/>
            </a:b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Curso de Graduação Tecnológica em </a:t>
            </a:r>
            <a:br>
              <a:rPr sz="2400"/>
            </a:b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Desenvolvimento de Jogos e Entretenimento Digital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1130040" cy="725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16000" y="2565360"/>
            <a:ext cx="3743280" cy="2806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292720" y="4076640"/>
            <a:ext cx="3363840" cy="2522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94760" y="5394240"/>
            <a:ext cx="19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ame Mak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. Semest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3440" y="3213000"/>
            <a:ext cx="19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arkBasic Pr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2°. Semest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230480"/>
            <a:ext cx="8001000" cy="11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UNISINOS - </a:t>
            </a:r>
            <a:r>
              <a:rPr b="1" i="1" lang="pt-BR" sz="2400" spc="-1" strike="noStrike">
                <a:solidFill>
                  <a:srgbClr val="cc0066"/>
                </a:solidFill>
                <a:latin typeface="Arial"/>
              </a:rPr>
              <a:t>EXPERIENCE CAMPUS</a:t>
            </a:r>
            <a:br>
              <a:rPr sz="2400"/>
            </a:br>
            <a:br>
              <a:rPr sz="800"/>
            </a:b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&lt;&lt; Desenvolvimento de Jogos 3D &gt;&gt;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1130040" cy="725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00000" y="2276640"/>
            <a:ext cx="79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Criando um Jogo 3D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Sistema de Coordenadas 3D - Eixos X, Y, 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Criando um Objeto 3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- Posição, Escala, Orient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- Cor e Tex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- Objetos facetados (faces = polígon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Conceito de "câmera virtual"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340000" y="595008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6237360"/>
            <a:ext cx="647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920" y="6118200"/>
            <a:ext cx="190440" cy="177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844360" y="587664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784600" y="59018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733840" y="592740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46240" y="6172200"/>
            <a:ext cx="104148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132680" y="3809880"/>
            <a:ext cx="108756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230480"/>
            <a:ext cx="8001000" cy="11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UNISINOS - </a:t>
            </a:r>
            <a:r>
              <a:rPr b="1" i="1" lang="pt-BR" sz="2400" spc="-1" strike="noStrike">
                <a:solidFill>
                  <a:srgbClr val="cc0066"/>
                </a:solidFill>
                <a:latin typeface="Arial"/>
              </a:rPr>
              <a:t>EXPERIENCE CAMPUS</a:t>
            </a:r>
            <a:br>
              <a:rPr sz="2400"/>
            </a:br>
            <a:br>
              <a:rPr sz="800"/>
            </a:b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&lt;&lt; Desenvolvimento de Jogos 3D &gt;&gt;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1130040" cy="725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2276640"/>
            <a:ext cx="79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Criando um Jogo 3D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Sistema de Coordenadas 3D - Eixos X, Y, 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Criando um Objeto 3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- Posição, Escala, Orient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- Cor e Tex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- Objetos facetados (faces = polígon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Conceito de "câmera virtual"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340000" y="595008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6237360"/>
            <a:ext cx="647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920" y="6118200"/>
            <a:ext cx="190440" cy="177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844360" y="587664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784600" y="59018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720520" y="592740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46240" y="6172200"/>
            <a:ext cx="104148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132680" y="3809880"/>
            <a:ext cx="1087560" cy="1473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87520" y="6010200"/>
            <a:ext cx="20599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JUST DO IT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230480"/>
            <a:ext cx="8001000" cy="11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UNISINOS - </a:t>
            </a:r>
            <a:r>
              <a:rPr b="1" i="1" lang="pt-BR" sz="2400" spc="-1" strike="noStrike">
                <a:solidFill>
                  <a:srgbClr val="cc0066"/>
                </a:solidFill>
                <a:latin typeface="Arial"/>
              </a:rPr>
              <a:t>EXPERIENCE CAMPUS</a:t>
            </a:r>
            <a:br>
              <a:rPr sz="2400"/>
            </a:br>
            <a:br>
              <a:rPr sz="800"/>
            </a:b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&lt;&lt; Desenvolvimento de Jogos 3D &gt;&gt;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1130040" cy="725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98080" y="2263680"/>
            <a:ext cx="5990040" cy="429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* Criar um objeto tipo esfera ou cub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MAKE OBJECT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CUBE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1,1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MAKE OBJECT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PHERE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2,1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MAKE OBJECT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BOX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nobj,10,10,1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LOR OBJECT nobj,RGB(red,green,blue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LOAD IMAGE "image.jpg",nim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EXTURE OBJECT nobj, nim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O/LOOP…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OTATE OBJECT nobj, RX#, RY#, RZ#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YROTATE OBJECT nobj, OBJECT ANGLE Y(nobj)+0.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IF Upkey()      THEN SET OBJECT WIREFRAME nobj,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IF Downkey() THEN SET OBJECT WIREFRAME nobj,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1230480"/>
            <a:ext cx="8001000" cy="11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UNISINOS - </a:t>
            </a:r>
            <a:r>
              <a:rPr b="1" i="1" lang="pt-BR" sz="2400" spc="-1" strike="noStrike">
                <a:solidFill>
                  <a:srgbClr val="cc0066"/>
                </a:solidFill>
                <a:latin typeface="Arial"/>
              </a:rPr>
              <a:t>EXPERIENCE CAMPUS</a:t>
            </a:r>
            <a:br>
              <a:rPr sz="2400"/>
            </a:br>
            <a:br>
              <a:rPr sz="800"/>
            </a:b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&lt;&lt; Desenvolvimento de Jogos 3D &gt;&gt;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1130040" cy="725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69840" y="2314440"/>
            <a:ext cx="3998520" cy="429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* Posiciona um objeto 3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LOAD OBJECT "arquivo.x",nobj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MOVE OBJECT nobj, velocidad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OSITION OBJECT nobj, PX#, PY#, PZ#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OTATE OBJECT   nobj, RX#, RY#, RZ#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OINT  OBJECT      nobj, PX#, PY#, PZ#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CALE OBJECT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 nobj, SX#, SY#, SZ#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X# = OBJECT POSITION X(nobj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Y# = OBJECT POSITION Y(nobj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Z# = OBJECT POSITION Z(nobj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X# = OBJECT ANGLE X(nobj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Y# = OBJECT ANGLE Y(nobj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Z# = OBJECT ANGLE Z(nobj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46120" y="2327400"/>
            <a:ext cx="3629880" cy="429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* Posiciona câmera 3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TROL CAMERA USING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ARROWKEYS 0, 0.5, 0.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OSITION CAMERA PX#, PY#, PZ#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OTATE CAMERA   RX#, RY#, RZ#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OINT CAMERA       PX#, PY#, PZ#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AUTOCAM OFF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X# = CAMERA POSITION X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Y# = CAMERA POSITION Y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Z# = CAMERA POSITION Z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X# = CAMERA ANGLE X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Y# = CAMERA ANGLE Y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Z# = CAMERA ANGLE Z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1230480"/>
            <a:ext cx="8001000" cy="11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UNISINOS - </a:t>
            </a:r>
            <a:r>
              <a:rPr b="1" i="1" lang="pt-BR" sz="2400" spc="-1" strike="noStrike">
                <a:solidFill>
                  <a:srgbClr val="cc0066"/>
                </a:solidFill>
                <a:latin typeface="Arial"/>
              </a:rPr>
              <a:t>EXPERIENCE CAMPUS</a:t>
            </a:r>
            <a:br>
              <a:rPr sz="2400"/>
            </a:br>
            <a:br>
              <a:rPr sz="800"/>
            </a:b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&lt;&lt; Desenvolvimento de Jogos 3D &gt;&gt;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1130040" cy="725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00000" y="2276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Criando um Jogo 3D: Componentes de um J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76840" y="2795760"/>
            <a:ext cx="7000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bertura, Encerra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onfiguração de Dispositiv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Trilha Sonora, Efeitos Sono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réditos, Scores, Recursos Multiplayer,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enário / Mun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gentes / Atores / Personage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ontroles, Câmera, Animações, Iluminação, Ações,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16000" y="4941720"/>
            <a:ext cx="4680000" cy="1008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244160"/>
            <a:ext cx="8001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arkBasic Pr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73680" y="2556000"/>
            <a:ext cx="700020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Componentes de um J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bertura, Encerra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onfiguração de Dispositiv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Trilha Sonora, Efeitos Sono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réditos, Scores, Recursos Multiplayer,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Cenário / Mun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Agentes / Atores / Personage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ontroles, Câmera, Animações, Iluminação, Ações,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2:38:51Z</dcterms:created>
  <dc:creator>osorio</dc:creator>
  <dc:description/>
  <dc:language>en-US</dc:language>
  <cp:lastModifiedBy>Fernando Santos Osorio</cp:lastModifiedBy>
  <dcterms:modified xsi:type="dcterms:W3CDTF">2006-05-24T03:58:09Z</dcterms:modified>
  <cp:revision>287</cp:revision>
  <dc:subject/>
  <dc:title>DarkBasic Pro</dc:title>
</cp:coreProperties>
</file>